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9CE-FE2A-4E3F-93B1-6E408F17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C66-783F-40AD-B8F9-0293E7DF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DA1-ACDC-451B-BD2F-D4E98032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012-EB5C-478E-879B-92D0A502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9AA-6EBA-4934-B708-F4680749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F39-15B7-460E-AF4B-F1CBBBF1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68D-9C0F-4C63-8578-D6931059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AA9-F02F-4D75-8110-76975A8C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3C7-B04A-4B5E-B7FD-5011D4C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465-2F19-4E9A-99AD-9F9E4930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517-AC6A-485B-8762-54B3E62F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DE6-815B-478F-B50B-C8414AB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6648-272A-4530-9B94-F307942CF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52578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Alan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March 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Computer #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828800"/>
            <a:ext cx="50292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va Lamp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0400" y="4343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Invented By: Edward Craven Wal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55627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ff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5562720"/>
            <a:ext cx="312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ff"/>
                </a:solidFill>
                <a:latin typeface="Arial"/>
              </a:rPr>
              <a:t>Sound: www.FreePlayMusic.com, Happy Music, March 18</a:t>
            </a:r>
            <a:r>
              <a:rPr b="0" lang="en-US" sz="1000" spc="-1" strike="noStrike" baseline="30000">
                <a:solidFill>
                  <a:srgbClr val="cc00ff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71800" y="548640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3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Walker"/>
          <p:cNvPicPr/>
          <p:nvPr/>
        </p:nvPicPr>
        <p:blipFill>
          <a:blip r:embed="rId1"/>
          <a:stretch/>
        </p:blipFill>
        <p:spPr>
          <a:xfrm>
            <a:off x="609480" y="533520"/>
            <a:ext cx="5334120" cy="1882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Walker"/>
          <p:cNvPicPr/>
          <p:nvPr/>
        </p:nvPicPr>
        <p:blipFill>
          <a:blip r:embed="rId2"/>
          <a:stretch/>
        </p:blipFill>
        <p:spPr>
          <a:xfrm>
            <a:off x="2209680" y="3733920"/>
            <a:ext cx="2210040" cy="1546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74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Lava Lam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9, 2010,     http://web.mit.edu/Invent/iow/ecwalk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254560"/>
            <a:ext cx="3505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Lava Lamp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9, 2010,     http://web.mit.edu/Invent/iow/ecwalk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365760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*Edward Craven Walker got the idea of The Lava Lamp, from an egg timer in the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or: Edward Craven Wal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ward was born July 4,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rked for a British Tobbaco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ward was Brit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iloted a Mosquito Air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August 15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38680" y="4572000"/>
            <a:ext cx="1258920" cy="1830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65530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Lava 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first marketed his lamp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colors were red or white with yellow or blue 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ward entered his Lava Lamp in a tra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ime, Lava Lamp sales increased. For example:  In the 1960’s he sold about 2,500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me the 1980’s where he sold more than 800,000 in just 1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1216080" cy="1235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52280" y="380880"/>
            <a:ext cx="1268640" cy="1279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52680" y="632448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c2c2"/>
                </a:solidFill>
                <a:latin typeface="Arial"/>
              </a:rPr>
              <a:t>All Pictures Clip Art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0:35Z</dcterms:created>
  <dc:creator>install</dc:creator>
  <dc:description/>
  <dc:language>en-US</dc:language>
  <cp:lastModifiedBy>install</cp:lastModifiedBy>
  <dcterms:modified xsi:type="dcterms:W3CDTF">2010-03-22T16:04:33Z</dcterms:modified>
  <cp:revision>10</cp:revision>
  <dc:subject/>
  <dc:title>Slide 1</dc:title>
</cp:coreProperties>
</file>